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27.jpeg" ContentType="image/jpeg"/>
  <Override PartName="/ppt/media/image33.jpeg" ContentType="image/jpeg"/>
  <Override PartName="/ppt/media/glass.wav" ContentType="audio/x-wav"/>
  <Override PartName="/ppt/media/image11.jpeg" ContentType="image/jpeg"/>
  <Override PartName="/ppt/media/image9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type.wav" ContentType="audio/x-wav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0EF-9633-42CF-B522-37DCBD9A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7B0-9993-4A70-9EB3-82860096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D09-EE03-4119-800B-559B043D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2D6-0CB2-4C5E-AA50-2C409025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287-7630-4875-B910-F388977A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2EF-8B12-4219-BBA8-7B2BF7B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E9B-8ABD-414E-AC88-EC255802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11E-C1C8-4506-9185-4960C121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BCE-D0F1-4FF4-8D3B-183BD43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0C4-F39B-468C-8AB0-A7F301F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D61-9D75-409F-8512-0F909AD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5CC-494D-4E3F-A976-A9A90FC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CB5-24A0-4C61-B08E-70CA380BD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lass.wav" TargetMode="External"/><Relationship Id="rId2" Type="http://schemas.microsoft.com/office/2007/relationships/media" Target="file:///tmp/home/.config/libreoffice/4/user/gallery/glas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765000"/>
            <a:ext cx="5400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环 保</a:t>
            </a:r>
            <a:endParaRPr b="1" lang="en-US" sz="1800" spc="1" strike="noStrike">
              <a:ln w="190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0920" y="6292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0093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11080" y="388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得不放弃的家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9120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39800" y="3157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挖发菜毁了草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20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63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60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685800"/>
            <a:ext cx="710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我们学校面临的环境问题主要有哪些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2781360"/>
            <a:ext cx="586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花草树木的破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水资源的浪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随手乱丢垃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647960" cy="6172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04920" y="685800"/>
            <a:ext cx="3598920" cy="43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瞧我的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80" y="1125360"/>
            <a:ext cx="2649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谈谈同学们在校用水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276640"/>
            <a:ext cx="6095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清洁卫生用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在厕所用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7650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试分析浪费水资源的原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2924280"/>
            <a:ext cx="586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环保意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节约观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自家的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6000" y="81000"/>
            <a:ext cx="8820000" cy="673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141300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66"/>
                </a:solidFill>
                <a:latin typeface="Arial"/>
                <a:ea typeface="黑体"/>
              </a:rPr>
              <a:t>倡导绿色环保</a:t>
            </a:r>
            <a:br>
              <a:rPr sz="4800"/>
            </a:br>
            <a:r>
              <a:rPr b="1" lang="zh-CN" sz="4800" spc="-1" strike="noStrike">
                <a:solidFill>
                  <a:srgbClr val="66ff66"/>
                </a:solidFill>
                <a:latin typeface="Arial"/>
                <a:ea typeface="黑体"/>
              </a:rPr>
              <a:t>          追求绿色情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19280" y="50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他怎么流  反正不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32000" y="228600"/>
            <a:ext cx="5832720" cy="644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240600" cy="4116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6440" y="1052640"/>
            <a:ext cx="164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俩个在干什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87280" y="476280"/>
            <a:ext cx="5905800" cy="916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改变我们的行为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70960" y="5734080"/>
            <a:ext cx="2375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生在捡“薄膜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5440" y="820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保护我们的家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从身边做起，爱护环境保护自然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拯救地球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人类一个绿色世界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 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家领导重视环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2473200"/>
            <a:ext cx="64087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家领导重视环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2476440"/>
            <a:ext cx="63356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家领导重视环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38040" y="2060640"/>
            <a:ext cx="2702160" cy="446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08720" y="2060640"/>
            <a:ext cx="2233800" cy="446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181320" y="2060640"/>
            <a:ext cx="3079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143000"/>
            <a:ext cx="716256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、石油告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、全球气温升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、水资源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、紫外辐射量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、矿产资源耗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、耕地面积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七、动植物品种和数量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、沙漠面积扩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、人口膨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、粮食需求可能超出地球的供给极限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04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十大全球性问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3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27280" y="130320"/>
            <a:ext cx="53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醉人的绿色环绕我们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从身边做起，爱护环境保护自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拯救地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人类一个绿色世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慰蓝明镜般的天空、清新的空气、清澈见底的河流、绿色的森林原野成为地球永远的风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27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6720" y="1700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99"/>
                </a:solidFill>
                <a:latin typeface="Arial"/>
                <a:ea typeface="楷体_GB2312"/>
              </a:rPr>
              <a:t>再 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54450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初一三班主题班会到此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家园在呻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慰蓝明镜般的天空，清新的空气，清澈见底的河流，绿色的森林原野，这是人类祖先享受过的最佳自然环境。如今，科学技术高速发展，生产资料和生活水平也高速增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伴随来的是生产和生活垃圾、废料对生态环境的日益破坏。请君看看，天上地下白、黑、黄色污染都不同程度地影响着我们的健康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260280"/>
            <a:ext cx="85694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资源被污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3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50920" y="404640"/>
            <a:ext cx="835344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  <p:seq>
              <p:cTn id="10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363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34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22480" y="2060640"/>
            <a:ext cx="1399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无辜的动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11080" y="4600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鱼虾海鸟死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3213000" cy="486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1986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3980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没有干净的水喝——无辜的人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373560" cy="494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2972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07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24Z</dcterms:modified>
  <cp:revision>1</cp:revision>
  <dc:subject>主题班会课件(分28大类): http://shop62905894.taobao.com</dc:subject>
  <dc:title>主题班会课件(分28大类): http://shop62905894.taobao.com</dc:title>
</cp:coreProperties>
</file>